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296-B739-4C63-849D-2A126EEB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E86-87BC-4ABF-9BFD-A73429A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D17-2A9F-4DA4-BB7B-822D21CE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CC6-B03B-4CDC-93F0-13D3650E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4DA-4045-4F6F-B3C3-EF6BD43B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E47-0A09-41B2-8840-9341AA86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D7D-A064-465C-96CA-31595DD9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57E-2F9D-47F1-BC77-6EFC859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842-CEE5-4AC2-91C8-0F73915D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69E-1C4B-4940-B88E-48C8ADC5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723-B1A2-46A5-9F29-DFADB8F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14E-2F14-4C4A-8762-CF0D012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803-45F7-4F13-BF9E-17985F7B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/imgres?imgurl=http://fireflyforest.net/images/firefly/2005/April/cottonwood-seeds.jpg&amp;imgrefurl=http://fireflyforest.net/firefly/2005/04/18/cottonwood-snow-in-april/&amp;usg=__cIjGu_bqxl5ehvHDH-olpZlqygs=&amp;h=300&amp;w=300&amp;sz=33&amp;hl=en&amp;start=1&amp;zoom=1&amp;um=1&amp;itbs=1&amp;tbnid=J6iQDxnCxD1rWM:&amp;tbnh=116&amp;tbnw=116&amp;prev=/images%3Fq%3Dcottonwoods%26um%3D1%26hl%3Den%26safe%3Dactive%26sa%3DN%26tbs%3Disch:1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en.wikipedia.org/wiki/File:Salix_alba_Morton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com/imgres?imgurl=http://blog.worldtoafricahunting.com/wp-content/uploads/2010/01/client-ajaaron-jan-2010-005.jpg&amp;imgrefurl=http://blog.worldtoafricahunting.com/index.php/tag/trophy-kudu&amp;usg=__pfR2AV6UlC3ofvRi8AzB-FE0eok=&amp;h=368&amp;w=490&amp;sz=54&amp;hl=en&amp;start=3&amp;zoom=1&amp;um=1&amp;itbs=1&amp;tbnid=kZD_pXocQxVWPM:&amp;tbnh=98&amp;tbnw=130&amp;prev=/images%3Fq%3Danimal%2Bhunted%2Bin%2Bgrassland%26um%3D1%26hl%3Den%26safe%3Dactive%26tbs%3Disch:1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com/imgres?imgurl=http://www.rbgsyd.nsw.gov.au/__data/assets/image/0009/80991/Grassland_fire_620.JPG&amp;imgrefurl=http://www.rbgsyd.nsw.gov.au/science/Evolutionary_Ecology_Research/Ecology_of_Cumberland_Plain_Woodland/woodland_ecology/impacting_events&amp;usg=__Me0rsymIZ7YRpZ90CdnSjTJSGMI=&amp;h=540&amp;w=620&amp;sz=105&amp;hl=en&amp;start=3&amp;zoom=1&amp;um=1&amp;itbs=1&amp;tbnid=fUHvD9ewo47ncM:&amp;tbnh=118&amp;tbnw=136&amp;prev=/images%3Fq%3Dfires%2Bin%2Bgrassland%26um%3D1%26hl%3Den%26safe%3Dactive%26tbs%3Disch:1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google.com/imgres?imgurl=http://image.shutterstock.com/display_pic_with_logo/346441/346441,1239281599,2/stock-photo-cattle-and-grassland-28222030.jpg&amp;imgrefurl=http://www.shutterstock.com/pic-28222030/stock-photo-cattle-and-grassland.html&amp;usg=__phNGViHPYL_aP9XC67ubFZX5itE=&amp;h=320&amp;w=450&amp;sz=104&amp;hl=en&amp;start=1&amp;zoom=1&amp;um=1&amp;itbs=1&amp;tbnid=Yit6MekwXpmusM:&amp;tbnh=90&amp;tbnw=127&amp;prev=/images%3Fq%3Dcattle%2Bin%2Bgrassland%26um%3D1%26hl%3Den%26safe%3Dactive%26tbs%3Disch:1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mnet.org.uk/resources/stern/stern/commonimages/crops.jpg&amp;imgrefurl=http://www.ecollo.com/%3Ftag%3D/food%2Bprices%26page%3D2&amp;usg=__77E0JU62N_lFvcXt7xG0BuRuWYY=&amp;h=339&amp;w=510&amp;sz=268&amp;hl=en&amp;start=2&amp;zoom=1&amp;um=1&amp;itbs=1&amp;tbnid=L2NRwxI2xMSpUM:&amp;tbnh=87&amp;tbnw=131&amp;prev=/images%3Fq%3Dcrops%26um%3D1%26hl%3Den%26safe%3Dactive%26tbs%3Disch:1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com/imgres?imgurl=http://ledgeandgardens.typepad.com/.a/6a00d8341c991c53ef0120a60362f5970c-800wi&amp;imgrefurl=http://ledgeandgardens.typepad.com/ledge_and_gardens/2009/09/michael-dirr-and-his-noble-trees-blithewold.html&amp;usg=__OrlVb4432Rwq9EZCOYgdq0jUwZk=&amp;h=532&amp;w=800&amp;sz=162&amp;hl=en&amp;start=3&amp;zoom=1&amp;um=1&amp;itbs=1&amp;tbnid=sdxKGZ6AVroy_M:&amp;tbnh=95&amp;tbnw=143&amp;prev=/images%3Fq%3Dwoody%2Btrees%26um%3D1%26hl%3Den%26safe%3Dactive%26sa%3DN%26tbs%3Disch:1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com/imgres?imgurl=http://www.nationalgeographic.com/adventure/images/0606/national-parks.jpg&amp;imgrefurl=http://www.nationalgeographic.com/adventure/national-parks/best-parks.html&amp;usg=__ai1XZNHNpeRQhnjhIvyAK565kTk=&amp;h=317&amp;w=484&amp;sz=55&amp;hl=en&amp;start=1&amp;zoom=1&amp;um=1&amp;itbs=1&amp;tbnid=da-L5hRKGBLzEM:&amp;tbnh=84&amp;tbnw=129&amp;prev=/images%3Fq%3Dnational%2Bparks%26um%3D1%26hl%3Den%26safe%3Dactive%26tbs%3Disch:1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www.google.com/imgres?imgurl=http://blog.maia-intelligence.com/wp-content/uploads/2008/09/images_government_icon_-_symbo_01.jpg&amp;imgrefurl=http://blog.maia-intelligence.com/2008/09/03/business-intelligence-for-public-sector-government/&amp;usg=__ka1ul1UP818E0i6fOTFXy-B3fd4=&amp;h=482&amp;w=500&amp;sz=29&amp;hl=en&amp;start=3&amp;zoom=1&amp;um=1&amp;itbs=1&amp;tbnid=nvk41ESiXim9pM:&amp;tbnh=125&amp;tbnw=130&amp;prev=/images%3Fq%3Dgovernment%26um%3D1%26hl%3Den%26safe%3Dactive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pnc.org/images/jpegs/animals/bison.jpg&amp;imgrefurl=http://www.gpnc.org/bison.htm&amp;usg=__vH_UP8wgvXAHKGxgQR528bFtnqA=&amp;h=292&amp;w=392&amp;sz=19&amp;hl=en&amp;start=1&amp;zoom=1&amp;um=1&amp;itbs=1&amp;tbnid=u7K_N001KZRhJM:&amp;tbnh=92&amp;tbnw=123&amp;prev=/images%3Fq%3Dbison%26um%3D1%26hl%3Den%26safe%3Dactive%26sa%3DN%26tbs%3Disch: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google.com/imgres?imgurl=http://upload.wikimedia.org/wikipedia/commons/c/cd/Sheep_and_goats.jpg&amp;imgrefurl=http://commons.wikimedia.org/wiki/File:Sheep_and_goats.jpg&amp;usg=__yagkZK1uOiMGQkenoFq0fsftHB0=&amp;h=910&amp;w=1353&amp;sz=451&amp;hl=en&amp;start=2&amp;zoom=1&amp;um=1&amp;itbs=1&amp;tbnid=d5IkWzgemw_x2M:&amp;tbnh=101&amp;tbnw=150&amp;prev=/images%3Fq%3Dsheep%2Band%2Bgoats%26um%3D1%26hl%3Den%26safe%3Dactive%26sa%3DN%26tbs%3Disch:1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www.google.com/imgres?imgurl=http://www.missouriplants.com/Yellowopp/Helianthus_divaricatus_flowers.jpg&amp;imgrefurl=http://www.missouriplants.com/Yellowopp/Helianthus_divaricatus_page.html&amp;usg=__W-J2oEuDpbxhlU4plpC3JHP3wU0=&amp;h=449&amp;w=450&amp;sz=41&amp;hl=en&amp;start=2&amp;zoom=1&amp;um=1&amp;itbs=1&amp;tbnid=axuO9VsiGsWlCM:&amp;tbnh=127&amp;tbnw=127&amp;prev=/images%3Fq%3Dflowers%26um%3D1%26hl%3Den%26safe%3Dactive%26tbs%3Disch:1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35.wm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1905120"/>
            <a:ext cx="70815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008000"/>
                </a:solidFill>
                <a:latin typeface="Elephant"/>
              </a:rPr>
              <a:t>Temperate Grasslands</a:t>
            </a:r>
            <a:endParaRPr b="0" lang="en-US" sz="18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008000"/>
              </a:solidFill>
              <a:latin typeface="Elephant"/>
              <a:ea typeface="Elephant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4952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By: Tyler Mensch, Dominic Bogucki, and Ariel Scho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tton W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lowering shrub or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2419200"/>
            <a:ext cx="4438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ows have bark that store water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2895480"/>
            <a:ext cx="38098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Needle Gr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Grass used for low water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35827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daptations of Anim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all Rodents adapted with thicker teeth to get through the thick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apt to dry, windy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me animals have flat topped teeth, which is for eating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Prairie animals have front legs and paws that allow them to bu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need to adapt to noctu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daptation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plants grow way underground, where it can survive a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have roots 3.5 inches into the ground, incase of a drou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have narrow leaves, which will loose less water to evaporation compared to the thicker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They have brightly colored plants which will attract pollinators like b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6160" y="5464080"/>
            <a:ext cx="2247840" cy="1393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541008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257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1447920" cy="102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uman Impact on the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rowing crops and raising c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are started by humans damaging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hunted which interfere with the food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land has been converted to farmland and very little natural prairie exist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s are taken into the atmosphere from fires and the equipment that establishments use to kill animals and cut down trees, to mak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5926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52960"/>
            <a:ext cx="1362240" cy="905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tecting the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vernment can limit who can interfere with the gras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ing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ting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ational parks to preserve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off the area to anyone w/o permit or autho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wareness  programs to everyone, so they know about people who are hurting the temperate grassland and the organisms that live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organizations from taking over the area and hur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make any major changes to the Biome( kill most of animals, plant crops, or any other unnatural sub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80880"/>
            <a:ext cx="1523880" cy="99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43800" y="304920"/>
            <a:ext cx="1238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39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648400"/>
            <a:ext cx="160020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19520" y="1676520"/>
            <a:ext cx="36766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n are hunted for their m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’ body parts  are very valuable for replacements for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al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livestock for human consumption and for milk and other dairy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land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tle, sheep, g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391520" y="5332320"/>
            <a:ext cx="17524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dy For Some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adaptation? Give one example of an animal in temperate gras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a grassland biome loc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iome? How is a grassland a bi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animals live there?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precipitation does grasslands receive per month? Clim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of earth’s surface is grass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's the importance of grassl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ndangered Species in this biome? Decompo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do to ensure survival of grassl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umans use in grasslands to mak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ncoe Science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 Biology Text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cmp.berkeley.edu/exhibits/biome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hewildclassroom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lueplanetbiome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useum.state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nchantedlearning.com/biomes/grassland/grassland.s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brary.thinkquest.org/26634/grass/impac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"/>
              </a:rPr>
              <a:t>Where are temperate grassla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emperate grasslands are found in North America, Eurasia, Southern South America, Southern and Central Africa, Australia and New Zea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524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1-4 completed by Tyler Mens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5-14 completed by Dominic Boguc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15-20 completed by Ariel Schof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Berlin Sans FB"/>
              </a:rPr>
              <a:t>Temperate Grassland </a:t>
            </a:r>
            <a:br>
              <a:rPr sz="4400"/>
            </a:br>
            <a:r>
              <a:rPr b="1" lang="en-US" sz="4400" spc="-1" strike="noStrike" u="sng">
                <a:solidFill>
                  <a:srgbClr val="ff0000"/>
                </a:solidFill>
                <a:uFillTx/>
                <a:latin typeface="Berlin Sans FB"/>
              </a:rPr>
              <a:t>Geolog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mperate grasslands are large, flat lands and homes to a large community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soil is very rich, therefore many types of grasses and shrubs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uring the winter, grasses will die resulting in a lot of hummus, creating a continuous underground s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erds of large grazing animals, such as bison, populate grasslands at only certain times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rganisms in this biome include jack rabbits, deer, elk, prairie dogs, insects, reptiles and many species of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ill Sans Ultra Bold"/>
              </a:rPr>
              <a:t>Precipitation 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Gill Sans Ultra Bold"/>
              </a:rPr>
              <a:t>and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Average Annual Precipitation: 25 to 75 centimeters of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Temperature Range: Up to 100 degrees Fahrenheit in the summer, and in some grasslands, down to -40 degrees in the wi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w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irie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rowing ro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charming antel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5867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ails and high visual acuity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7760" y="220968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ton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le Needle 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zing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ffalo 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atris pychnostachya"/>
          <p:cNvPicPr/>
          <p:nvPr/>
        </p:nvPicPr>
        <p:blipFill>
          <a:blip r:embed="rId2"/>
          <a:stretch/>
        </p:blipFill>
        <p:spPr>
          <a:xfrm>
            <a:off x="6705720" y="685800"/>
            <a:ext cx="2104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53:15Z</dcterms:created>
  <dc:creator>xpstudent</dc:creator>
  <dc:description/>
  <dc:language>en-US</dc:language>
  <cp:lastModifiedBy>xpstudent</cp:lastModifiedBy>
  <dcterms:modified xsi:type="dcterms:W3CDTF">2010-10-28T13:08:11Z</dcterms:modified>
  <cp:revision>6</cp:revision>
  <dc:subject/>
  <dc:title>Temperate Grassland</dc:title>
</cp:coreProperties>
</file>